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9.png" ContentType="image/pn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B38-41EA-45F3-9D64-1DA37E05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D88-031A-4EBE-B4ED-C4F8769B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853-C298-40E6-9F3D-91FC3692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02A-7BE5-4681-AD6D-1D4A4698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088D-0A85-4B37-81FF-7D9B8DB5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DD30-0996-4DA3-818B-B3968FEA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129E-A874-441A-AA61-49891BD1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6688-C5B9-46E3-9384-C0A702F7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38ED-B29B-4FF5-A09D-1D3F3ADE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0308-CED6-4BC2-B76F-3D70B6D0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A216-F64D-419B-8B4B-AAD659D7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532-E822-475C-BCDB-CF61E367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1FE3-4A25-4C69-8635-958339CE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5B43-59BB-4EA3-99FA-949D7C71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6EF3-BE31-430E-9ED5-BBC4A0B9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4EC7-FF94-4F0E-98DB-38478877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C698-CE08-4B94-BAE8-9A40A7D7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A3A4F-5E2A-4DF3-9199-1DE20DCF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36ED1-40E7-43C1-986E-ED84045D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C5FB5-1539-41D1-A4AB-77EDA840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0CBBB-511C-479F-9A0E-3B336D86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C242A-BF81-4841-9AEC-D4E67DAC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880-BAF2-4EF2-8210-D77C738E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F5E2C-DD48-434A-992F-B1500CE9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5F485-3B56-4AC6-BB2E-F2B19F5C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AF6D1-1284-4E17-9269-2A12CADA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3608A-9766-459D-9513-2FC6BDDC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29550-EA9D-4635-A658-08A97CBF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28BF-5EE2-4108-9B85-05D562B0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8A935-9F17-462F-BD3F-4DF1DB94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EB892-0A4D-45B8-9218-1912F952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53991-1C76-48D7-B918-15DC3798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D24F1-3935-4DBE-9111-E3C7FA04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5B1-0E83-4098-85CC-8F294942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5382C-A9F4-4945-A27E-812BFB68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AA808-7435-4F24-89E6-F2DC0534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88348-38BF-4FA2-A68B-03F2CA87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132FE-7680-4420-910D-F0385A82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5E78C-E111-4EB4-94FA-EC770FB9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A615B-926C-4F38-9C5C-9C36E8A2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F7117-8B6F-4946-A245-CFB4E9AC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77E33-BB0B-4F45-9F8F-7EBA879D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F8AD4-B1FB-41F9-9EE6-3BBCF158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B67-D45E-4213-A68E-7591ED46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8EB-12D2-4206-A827-10AE4F60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497-9365-4E63-9910-15166A7F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C65-35AC-431D-93F8-BBC38325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28D9-65C8-4029-B563-5A30DE51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E945-D11A-45A7-B8A4-A0E95F568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8A84-7956-4110-8DC4-E0B98186F5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E07A-0B0A-4B66-96E7-3E12A1D681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141" name="Freeform 4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5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144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9DAA-6CDF-415D-A136-6811C2C49A9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643280" y="5013000"/>
            <a:ext cx="385128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бота  выполнена обучающейся 9 «А» класса  МОУ «СОШ №2»  Мусафировой Анастаси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WordArt 6"/>
          <p:cNvSpPr txBox="1"/>
          <p:nvPr/>
        </p:nvSpPr>
        <p:spPr>
          <a:xfrm>
            <a:off x="755640" y="476280"/>
            <a:ext cx="76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ращивание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сталлов.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5600" y="-360"/>
            <a:ext cx="735804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ЭКСПЕРЕМЕНТ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ПО ВЫРАЩИВАНИЮ КРИСТАЛЛОВ КРАСНОЙ КРОВЯНОЙ  СОЛИ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УДАЛСЯ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0" name="Picture 9" descr="кристалы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1"/>
          <p:cNvPicPr/>
          <p:nvPr/>
        </p:nvPicPr>
        <p:blipFill>
          <a:blip r:embed="rId1"/>
          <a:stretch/>
        </p:blipFill>
        <p:spPr>
          <a:xfrm>
            <a:off x="5724360" y="2205000"/>
            <a:ext cx="2557800" cy="2130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1"/>
          <p:cNvPicPr/>
          <p:nvPr/>
        </p:nvPicPr>
        <p:blipFill>
          <a:blip r:embed="rId2"/>
          <a:stretch/>
        </p:blipFill>
        <p:spPr>
          <a:xfrm>
            <a:off x="611280" y="2205000"/>
            <a:ext cx="2736720" cy="21160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35804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Выращивание кристаллов сульфата железа(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II)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способом охлажд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4" name="Picture 5" descr="1"/>
          <p:cNvPicPr/>
          <p:nvPr/>
        </p:nvPicPr>
        <p:blipFill>
          <a:blip r:embed="rId3"/>
          <a:stretch/>
        </p:blipFill>
        <p:spPr>
          <a:xfrm>
            <a:off x="3059280" y="4508640"/>
            <a:ext cx="2879640" cy="19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5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0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5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75680" cy="15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ЭКСПЕРЕМЕНТ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ПО ВЫРАЩИВАНИЮ КРИСТАЛЛОВ СУЛЬФАТА ЖЕЛЕЗА (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II)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УДАЛСЯ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6" name="Picture 5" descr="1"/>
          <p:cNvPicPr/>
          <p:nvPr/>
        </p:nvPicPr>
        <p:blipFill>
          <a:blip r:embed="rId1"/>
          <a:stretch/>
        </p:blipFill>
        <p:spPr>
          <a:xfrm>
            <a:off x="0" y="1606680"/>
            <a:ext cx="9144000" cy="52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remove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1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1"/>
          <p:cNvPicPr/>
          <p:nvPr/>
        </p:nvPicPr>
        <p:blipFill>
          <a:blip r:embed="rId1"/>
          <a:stretch/>
        </p:blipFill>
        <p:spPr>
          <a:xfrm>
            <a:off x="5076720" y="2852640"/>
            <a:ext cx="3510000" cy="2368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1"/>
          <p:cNvPicPr/>
          <p:nvPr/>
        </p:nvPicPr>
        <p:blipFill>
          <a:blip r:embed="rId2"/>
          <a:stretch/>
        </p:blipFill>
        <p:spPr>
          <a:xfrm>
            <a:off x="611280" y="2852640"/>
            <a:ext cx="3495600" cy="23796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358040" cy="2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Выращивание кристаллов дихромата калия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способом охлажд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5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0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68320" y="0"/>
            <a:ext cx="7375680" cy="15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ЭКСПЕРЕМЕНТ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ПО ВЫРАЩИВАНИЮ КРИСТАЛЛОВ ДИХРОМАТА  КАЛИЯ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УДАЛСЯ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41" name="Picture 5" descr="1"/>
          <p:cNvPicPr/>
          <p:nvPr/>
        </p:nvPicPr>
        <p:blipFill>
          <a:blip r:embed="rId1"/>
          <a:stretch/>
        </p:blipFill>
        <p:spPr>
          <a:xfrm>
            <a:off x="0" y="1603440"/>
            <a:ext cx="9144000" cy="52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2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7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"/>
          <p:cNvSpPr/>
          <p:nvPr/>
        </p:nvSpPr>
        <p:spPr>
          <a:xfrm>
            <a:off x="971640" y="188640"/>
            <a:ext cx="717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ФАНТАСТИЧЕСКИЕ УЗОРЫ НА СТЕКЛ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З МЕДНОГО КУПОРО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13" descr="C:\Documents and Settings\Учитель\Рабочий стол\Рисунок1.jpg"/>
          <p:cNvPicPr/>
          <p:nvPr/>
        </p:nvPicPr>
        <p:blipFill>
          <a:blip r:embed="rId1"/>
          <a:stretch/>
        </p:blipFill>
        <p:spPr>
          <a:xfrm>
            <a:off x="0" y="1928880"/>
            <a:ext cx="8431200" cy="4754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" descr="C:\Documents and Settings\Учитель\Рабочий стол\Рисунок2.jpg"/>
          <p:cNvPicPr/>
          <p:nvPr/>
        </p:nvPicPr>
        <p:blipFill>
          <a:blip r:embed="rId2"/>
          <a:stretch/>
        </p:blipFill>
        <p:spPr>
          <a:xfrm>
            <a:off x="0" y="1928880"/>
            <a:ext cx="8907480" cy="4714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C:\Documents and Settings\Учитель\Рабочий стол\Рисунок3.png"/>
          <p:cNvPicPr/>
          <p:nvPr/>
        </p:nvPicPr>
        <p:blipFill>
          <a:blip r:embed="rId3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3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3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ывод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14680" y="1285920"/>
            <a:ext cx="712944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знакомилас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о способами выращивания кристал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растила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ристаллы медного купороса, дихромата калия, сульфата железа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I)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 красной кровяной с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бедилас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 практике в том, что  кристаллы разных солей имеют различную форму и даже одна и та же соль может образовывать разные виды кристал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4. Полученные кристаллы можн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спользова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ля создания картин, цветов, композиций  и  воплощения   дизайнерских идей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3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3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000"/>
                            </p:stCondLst>
                            <p:childTnLst>
                              <p:par>
                                <p:cTn id="3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3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000"/>
                            </p:stCondLst>
                            <p:childTnLst>
                              <p:par>
                                <p:cTn id="3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3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Серебро"/>
          <p:cNvPicPr/>
          <p:nvPr/>
        </p:nvPicPr>
        <p:blipFill>
          <a:blip r:embed="rId1"/>
          <a:stretch/>
        </p:blipFill>
        <p:spPr>
          <a:xfrm>
            <a:off x="250920" y="1700280"/>
            <a:ext cx="2463840" cy="24289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РАЗНООБРАЗИЕ  КРИСТАЛЛОВ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786040" y="1357200"/>
            <a:ext cx="6143760" cy="25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ких только кристаллических тел не создала природ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толбики, кубы, пирамиды, пластинки, звезды, иглы, лепестки. Поражает разнообразие причудливых форм и цветов кристаллов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4445"/>
          <p:cNvPicPr/>
          <p:nvPr/>
        </p:nvPicPr>
        <p:blipFill>
          <a:blip r:embed="rId2"/>
          <a:stretch/>
        </p:blipFill>
        <p:spPr>
          <a:xfrm>
            <a:off x="250920" y="4429080"/>
            <a:ext cx="2484360" cy="242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Изображение 1(10)"/>
          <p:cNvPicPr/>
          <p:nvPr/>
        </p:nvPicPr>
        <p:blipFill>
          <a:blip r:embed="rId3"/>
          <a:stretch/>
        </p:blipFill>
        <p:spPr>
          <a:xfrm>
            <a:off x="2987640" y="4410000"/>
            <a:ext cx="2786040" cy="244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cuso4"/>
          <p:cNvPicPr/>
          <p:nvPr/>
        </p:nvPicPr>
        <p:blipFill>
          <a:blip r:embed="rId4"/>
          <a:stretch/>
        </p:blipFill>
        <p:spPr>
          <a:xfrm>
            <a:off x="6227640" y="4437000"/>
            <a:ext cx="242100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ЦЕЛЬ РАБ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1785960" y="1292040"/>
            <a:ext cx="70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А что я могу сделать своими рукам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чтобы приобщиться к великолепному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загадочному миру кристаллов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1619280" y="3500280"/>
            <a:ext cx="7248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Я решила провести исследовательскую работу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оторой — научиться выращиват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ристаллы разных веществ из вод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створ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0866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ЗАДАЧ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1692360" y="1137960"/>
            <a:ext cx="705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Передо мной встали следующ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задач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познакомиться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со  способами  выращивания кристалл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освоить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методику   выращивания кристаллических   те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ве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наблюдения   за   процессом кристаллиз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выработать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рекомендации по выращиванию   кристалл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086600" cy="18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СПОСОБЫ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ВЫРАЩИВАНИЯ КРИСТАЛЛ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5640" y="2060280"/>
            <a:ext cx="725004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ристаллизация из водного раство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176840" y="414972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71640" y="4508640"/>
            <a:ext cx="3600360" cy="17287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охлажд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насыщенного раство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5076720" y="4508640"/>
            <a:ext cx="3672000" cy="16556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удаление воды и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насыщенн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раство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(испарени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2411280" y="3213000"/>
            <a:ext cx="503280" cy="1225800"/>
          </a:xfrm>
          <a:prstGeom prst="downArrow">
            <a:avLst>
              <a:gd name="adj1" fmla="val 50000"/>
              <a:gd name="adj2" fmla="val 60891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6443640" y="3213000"/>
            <a:ext cx="503280" cy="1225800"/>
          </a:xfrm>
          <a:prstGeom prst="downArrow">
            <a:avLst>
              <a:gd name="adj1" fmla="val 50000"/>
              <a:gd name="adj2" fmla="val 60891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Ход раб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2340000" y="1916280"/>
            <a:ext cx="680400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риготовить насыщенный раствор вещ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2411280" y="3213000"/>
            <a:ext cx="67327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рофильтровать раств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Прямоугольник 7" descr=""/>
          <p:cNvPicPr/>
          <p:nvPr/>
        </p:nvPicPr>
        <p:blipFill>
          <a:blip r:embed="rId1"/>
          <a:stretch/>
        </p:blipFill>
        <p:spPr>
          <a:xfrm>
            <a:off x="579600" y="4370400"/>
            <a:ext cx="1261800" cy="112860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8" descr=""/>
          <p:cNvPicPr/>
          <p:nvPr/>
        </p:nvPicPr>
        <p:blipFill>
          <a:blip r:embed="rId2"/>
          <a:stretch/>
        </p:blipFill>
        <p:spPr>
          <a:xfrm>
            <a:off x="579600" y="3230640"/>
            <a:ext cx="1261800" cy="112860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10" descr=""/>
          <p:cNvPicPr/>
          <p:nvPr/>
        </p:nvPicPr>
        <p:blipFill>
          <a:blip r:embed="rId3"/>
          <a:stretch/>
        </p:blipFill>
        <p:spPr>
          <a:xfrm>
            <a:off x="506520" y="1871640"/>
            <a:ext cx="1261800" cy="11271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2428920" y="4581360"/>
            <a:ext cx="671508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роцедуру повторять до необходимого результа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1"/>
          <p:cNvPicPr/>
          <p:nvPr/>
        </p:nvPicPr>
        <p:blipFill>
          <a:blip r:embed="rId1"/>
          <a:stretch/>
        </p:blipFill>
        <p:spPr>
          <a:xfrm>
            <a:off x="5435640" y="1557360"/>
            <a:ext cx="2819520" cy="2387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1"/>
          <p:cNvPicPr/>
          <p:nvPr/>
        </p:nvPicPr>
        <p:blipFill>
          <a:blip r:embed="rId2"/>
          <a:stretch/>
        </p:blipFill>
        <p:spPr>
          <a:xfrm>
            <a:off x="468360" y="1628640"/>
            <a:ext cx="2590920" cy="237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1"/>
          <p:cNvPicPr/>
          <p:nvPr/>
        </p:nvPicPr>
        <p:blipFill>
          <a:blip r:embed="rId3"/>
          <a:stretch/>
        </p:blipFill>
        <p:spPr>
          <a:xfrm>
            <a:off x="611280" y="4365720"/>
            <a:ext cx="2592360" cy="2313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1"/>
          <p:cNvPicPr/>
          <p:nvPr/>
        </p:nvPicPr>
        <p:blipFill>
          <a:blip r:embed="rId4"/>
          <a:stretch/>
        </p:blipFill>
        <p:spPr>
          <a:xfrm>
            <a:off x="5435640" y="4292640"/>
            <a:ext cx="2786040" cy="2349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632720" cy="24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Выращивание кристаллов медного купороса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способом охлажд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8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3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8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3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737532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ЭКСПЕРЕМЕНТ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ПО ВЫРАЩИВАНИЮ КРИСТАЛЛОВ медного купороса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УДАЛСЯ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3" name="Picture 9" descr="кристалы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1"/>
          <p:cNvPicPr/>
          <p:nvPr/>
        </p:nvPicPr>
        <p:blipFill>
          <a:blip r:embed="rId1"/>
          <a:stretch/>
        </p:blipFill>
        <p:spPr>
          <a:xfrm>
            <a:off x="5940360" y="1773360"/>
            <a:ext cx="2657520" cy="2171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1"/>
          <p:cNvPicPr/>
          <p:nvPr/>
        </p:nvPicPr>
        <p:blipFill>
          <a:blip r:embed="rId2"/>
          <a:stretch/>
        </p:blipFill>
        <p:spPr>
          <a:xfrm>
            <a:off x="539640" y="1773360"/>
            <a:ext cx="2737080" cy="2103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1"/>
          <p:cNvPicPr/>
          <p:nvPr/>
        </p:nvPicPr>
        <p:blipFill>
          <a:blip r:embed="rId3"/>
          <a:stretch/>
        </p:blipFill>
        <p:spPr>
          <a:xfrm>
            <a:off x="6012000" y="4508640"/>
            <a:ext cx="2643120" cy="2058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1"/>
          <p:cNvPicPr/>
          <p:nvPr/>
        </p:nvPicPr>
        <p:blipFill>
          <a:blip r:embed="rId4"/>
          <a:stretch/>
        </p:blipFill>
        <p:spPr>
          <a:xfrm>
            <a:off x="539640" y="4437000"/>
            <a:ext cx="2786040" cy="21160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7272360" cy="25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Выращивание кристаллов красной кровяной соли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способом охлажд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7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2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7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14:23:51Z</dcterms:created>
  <dc:creator>12345</dc:creator>
  <dc:description/>
  <dc:language>en-US</dc:language>
  <cp:lastModifiedBy>Учитель</cp:lastModifiedBy>
  <dcterms:modified xsi:type="dcterms:W3CDTF">2009-01-27T07:02:38Z</dcterms:modified>
  <cp:revision>42</cp:revision>
  <dc:subject/>
  <dc:title>КРИСТАЛЛЫ</dc:title>
</cp:coreProperties>
</file>